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3158-931B-4ED8-80F8-E895DF38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8098-1F42-456D-9AC0-6810366B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16F4-47B8-43EE-9DC6-B372996B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82A5-3F61-4A41-A47D-190863A0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3473-D226-40BE-B9B0-1D571C04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427E-FAF2-45C0-B3D5-4266F43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BF47-7386-493E-BFC6-A4563FBB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36C7-EC69-4B26-A174-26D2873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25B3-0556-4666-8427-A120510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8A87-6514-44EA-8878-22A50CF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A737-2136-4623-B207-479397A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F3C9-AF45-4BF1-8729-E41F8E15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8C43-23B4-4F67-AB05-78CE758E7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3152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Нормативные механизмы института семьи</a:t>
            </a:r>
            <a:endParaRPr b="0" lang="en-US" sz="49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2277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12392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ы семейного поведения возникли еще в первобытном обществе и передавались из поколения в поколение, становясь коллективными привычками, обычаями и традициями. Тех, кто соблюдал эти нормы, общество поддерживало, поощряло, тех, кто нарушал их, - осуждало и наказывало. Так возник нормативный механизм института сем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ак эволюционирует вместе с обществом, и в настоящее время можно выделить три основных вида механизмов регулирования семейных отнош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095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1773000"/>
            <a:ext cx="7315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шения в семье регулируются обычаями и традиц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мейные традиции — это обычные принятые в семье нормы, манеры поведения, обычаи и взгляды, которые передаются из поколения в поколение. Семейные традиции и обряды основываются на общественных, религиозных и исторических традициях и обрядах, но творчески преобразуются и дополняются собственными, поэтому они уникальны для каждой сем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ультурные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внутри семьи регулируются ценностными установками, религиозными и нравственными представл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ейные ценности могут быть включе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ости супруж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мократические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ости родительства и воспитания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ости родственных свя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ости, связанные с саморазви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Юридические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844640"/>
            <a:ext cx="7315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мейные отношения регулируются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мейное право в СССР было кодифицировано в 1960-х, с принятием Основ законодательства о браке и сем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ыне в России в основе семейного права лежит Семейный кодекс Российской Федерации (СК РФ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 правового регулирования семейных отношений сформулированы в п. 1 ст. 1 СК РФ. К ним относя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репление семь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семейных отношений на чувствах взаимной любви и уважения, взаимопомощи и ответственности перед семьей всех ее чле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допустимость произвольного вмешательства кого-либо в дела семь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беспрепятственного осуществления членами семьи свои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возможности судебной защиты членами семьи своих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04:16Z</dcterms:created>
  <dc:creator>Алексей</dc:creator>
  <dc:description/>
  <dc:language>en-US</dc:language>
  <cp:lastModifiedBy>Vlad</cp:lastModifiedBy>
  <dcterms:modified xsi:type="dcterms:W3CDTF">2012-04-15T11:18:31Z</dcterms:modified>
  <cp:revision>10</cp:revision>
  <dc:subject/>
  <dc:title>но</dc:title>
</cp:coreProperties>
</file>